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B4B1-8EC0-4F0B-B6BE-599B6B3A8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0D45-0804-4DF5-9A98-C3636594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98A6-29AD-4B7E-ACCE-DF045D791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914F-C734-4C52-80CE-381C741CF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C9C5-67FB-4AF2-9ACE-0628A296D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3392-C77C-4D6D-B930-29EED7D6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46C9-0444-4027-98E8-B247DEA6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D20A-37B1-47E2-94F2-F5433D77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FD09-E4F1-489C-922F-F5990E9E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46BB-BC8C-4DD8-9C86-8339D516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2AE8-3616-407A-B46F-B0DD39DE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142B-AE89-430F-9E39-EA43DA1E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AA64-494C-432F-A1EC-66D7F1E6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9D06-3B68-4F11-BF85-3E8B9AA5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8FAA-9915-4DD3-A779-499A97A9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0719-B642-4525-8890-2108854B1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6E01-85E2-46D6-AF48-9BF3869C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C77A-CECD-4AF1-8B25-2659EB04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001F-D8A5-49E6-8138-C72D28D6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56F5-9E0D-4EFB-B62B-80688BD5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42E9-987F-4879-AD67-9CEB3642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7042-BA98-4B44-9414-76CBAEB3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E20A-4EBA-4234-A35F-DB1DB2D1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5D61-8A7E-41A5-B9EC-D4AFA713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928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749A-0B06-42D2-B6C5-AA83BB59CF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928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725E-CBF5-4FAA-9A67-2D62E2AD2C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928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Go Tell The Good News”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e Early Church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11, Lesson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s 5:1 – 6: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29-3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F87F-76C8-4081-889A-BC0479324848}" type="slidenum">
              <a:t>1</a:t>
            </a:fld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928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rejoiced for being able to suffer for Jesus’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ontinued daily in the temple to teach and preach Jesus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e Apostles Continue Their Work </a:t>
            </a:r>
            <a:br>
              <a:rPr sz="4000"/>
            </a:b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cts 5:41-42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13DC-9065-4DCE-9C41-D4E1654AF3E0}" type="slidenum">
              <a:t>10</a:t>
            </a:fld>
          </a:p>
        </p:txBody>
      </p:sp>
    </p:spTree>
  </p:cSld>
  <p:transition spd="med">
    <p:diamond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928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e Grecian Jews Murmur</a:t>
            </a:r>
            <a:br>
              <a:rPr sz="4000"/>
            </a:b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cts 6:1-6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cians we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lenist, a Jew by birth who spoke Gr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a foreign Jew or prosely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rmuring began because the Grecian widows were being negl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sciples were told to find men of good report to oversee this bus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hose Stephen, Philip, Prochorus, Nicanor, Timon, Parmenas, and Nicol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31D4-E74B-472E-A29C-AB7E76E24D61}" type="slidenum">
              <a:t>11</a:t>
            </a:fld>
          </a:p>
        </p:txBody>
      </p:sp>
    </p:spTree>
  </p:cSld>
  <p:transition spd="med">
    <p:diamond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928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In the previous lesson..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sciples were with one heart and one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old their lands to help their needy breth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postles made the distrib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nabas sold a field and brought the money to the apost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78BE-37D8-46D1-8126-A251F646E247}" type="slidenum">
              <a:t>2</a:t>
            </a:fld>
          </a:p>
        </p:txBody>
      </p:sp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928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Ananias and Sapphira</a:t>
            </a:r>
            <a:br>
              <a:rPr sz="4000"/>
            </a:b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cts 5:1-11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ertain man, Ananias, with his wife’s knowledge, sold property and kept back part of the mo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nias pretended that he brought all the money he had received for the s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Ananias’ s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ter told him that he had lied to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one person’s actions affect anoth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5BA5-30FE-4ED7-94CC-1247342848C1}" type="slidenum">
              <a:t>3</a:t>
            </a:fld>
          </a:p>
        </p:txBody>
      </p:sp>
    </p:spTree>
  </p:cSld>
  <p:transition spd="med">
    <p:diamond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928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e Apostles Continue Their Work </a:t>
            </a:r>
            <a:br>
              <a:rPr sz="4000"/>
            </a:b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cts 5:12-16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8229600" cy="45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postles worked many signs and won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believers distanced themselves from the apost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tudes of believers were added to the L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sick and those with unclean spirits were hea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C616-56A0-4AC7-9699-44DC851D99C6}" type="slidenum">
              <a:t>4</a:t>
            </a:fld>
          </a:p>
        </p:txBody>
      </p:sp>
    </p:spTree>
  </p:cSld>
  <p:transition spd="med">
    <p:diamond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928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e Apostles Are Jailed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cts 5:17-21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igh priest and Sadducees were filled with indignation (fu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postles were put in pris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ngel of the Lor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eased them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ructed them to teach in the te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that morning, they began to t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61CA-18A6-4893-B592-DDD6C641C095}" type="slidenum">
              <a:t>5</a:t>
            </a:fld>
          </a:p>
        </p:txBody>
      </p:sp>
    </p:spTree>
  </p:cSld>
  <p:transition spd="med">
    <p:diamond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928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e Apostles Are Found - Again</a:t>
            </a:r>
            <a:br>
              <a:rPr sz="3600"/>
            </a:b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cts 5:21-26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82296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 Sanhedrin was assembled, they learned that the apostles were g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jail was still sec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ere told the apostles were teaching in the te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postles were again brought before the counc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FF6D-31E9-4712-8112-76485BDEA69E}" type="slidenum">
              <a:t>6</a:t>
            </a:fld>
          </a:p>
        </p:txBody>
      </p:sp>
    </p:spTree>
  </p:cSld>
  <p:transition spd="med">
    <p:diamond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928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e Apostles Are Accused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cts 5:27-33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82296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igh priest told the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ier we forbade you not to teach in Jesus’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intend to bring this man’s blood upon 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postles responde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must obey God rather than 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you slew Jesus, God raised Him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are witnesses to these th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uncil wanted to kill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FB42-0F59-40CE-99D0-A57C66673D8E}" type="slidenum">
              <a:t>7</a:t>
            </a:fld>
          </a:p>
        </p:txBody>
      </p:sp>
    </p:spTree>
  </p:cSld>
  <p:transition spd="med">
    <p:diamond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928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Gamaliel Addressed The Council</a:t>
            </a:r>
            <a:br>
              <a:rPr sz="4000"/>
            </a:b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cts 5:34-39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960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malie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harisee, a doctor of the law, highly respected by the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reminded them o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udas boasted himself to be some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as slain and his 400 followers were scatte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as of Galilee drew away much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perished and his followers disper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D6FF-E572-46AF-92D2-38489ED4B648}" type="slidenum">
              <a:t>8</a:t>
            </a:fld>
          </a:p>
        </p:txBody>
      </p:sp>
    </p:spTree>
  </p:cSld>
  <p:transition spd="med">
    <p:diamond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928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Gamaliel Addressed The Council</a:t>
            </a:r>
            <a:br>
              <a:rPr sz="4000"/>
            </a:b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cts 5:34-39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45964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rain from these men and let them alon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reason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is work be of men, it will not l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t be of God, you cannot overthrow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uncil agreed bu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them bea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dered them not to speak in Jesus’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they let them 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E5F1-0061-400C-91D0-B9784ECF806F}" type="slidenum">
              <a:t>9</a:t>
            </a:fld>
          </a:p>
        </p:txBody>
      </p:sp>
    </p:spTree>
  </p:cSld>
  <p:transition spd="med">
    <p:diamond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3T21:39:45Z</dcterms:created>
  <dc:creator>Ray Cooley</dc:creator>
  <dc:description/>
  <dc:language>en-US</dc:language>
  <cp:lastModifiedBy>Frank D Vines</cp:lastModifiedBy>
  <dcterms:modified xsi:type="dcterms:W3CDTF">2007-01-21T14:37:15Z</dcterms:modified>
  <cp:revision>57</cp:revision>
  <dc:subject/>
  <dc:title>Life of Christ, Part 2 In Perea</dc:title>
</cp:coreProperties>
</file>